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63D06-BACE-4968-BB1E-6B498BEC5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56F95-70D7-44EC-B5A1-6BB0393BD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E668F-C05A-4390-8F6E-7BF569BCA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269F1-DEAE-434F-B625-6230B45F2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B04D6-46F3-4607-B36B-F5623B1AF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76E06-1BE7-4978-BFB8-145E55E26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56523-3428-4B7D-9708-43D90455B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0784B-4491-4C07-A6FC-F39887607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AB2D6-2BC6-4D9E-9B58-E39D1E8CF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079BF-2D90-428B-99DF-7CCB6847B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2ACD0-2DE3-4ECE-9386-98D5A4EAF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AD18-3721-4D34-9BAC-FEC8B9A6D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D528B-16EC-4305-AA2E-B8373814F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5014E-D2EA-4E26-B070-3213587FD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E9055-3D57-46DC-9DDB-8DBE9EAC3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C7246-A8EA-4D26-B6C2-C3F571962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853B8-0557-4927-A1A0-94495EA55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2AE59B-D784-4A96-ABC2-0538BE5E2F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1B804-8127-4A5C-8F03-C8ACDB988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E65C5-E8B0-442A-BCE2-C2F1B60C5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967CBF-7FBF-4BC9-84DB-7C40D6E23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0E7CF-37A6-400E-AAEB-CE7297A6F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478BB-3A08-4B4F-8DFD-21CBCAB61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8E267-2D57-4CFE-8306-F98281385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75AEEA-A096-4B82-8B80-AE37433BE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496ED-388E-4C91-8154-B737E60B1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00380-67C3-4EE9-900D-4821AF797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05C92-663F-4FBD-A7DE-D9A3C990C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8CDB0-1D79-4AC7-A207-72D1121F3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9CB8FD-D2A0-41CC-8962-822F134D94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0E8BF3-BC09-4D43-ACB6-426E5BEFEC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954CF-2616-4BD3-97CE-61D334FD7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C392F-1363-4B5F-A71A-1D72D8EA73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92B24-50E0-4642-AAB8-57909258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102BC-0F67-4AC3-92AE-4080EEC803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DEC691-1C51-46D1-ABFA-4E2B0C084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0A751-E43C-413B-AD4A-217586162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1CEF8-8621-45D4-B51E-33C6A3DF7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C2294-E947-4DEA-9E4A-473E6E081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B7CBE-1FC2-445F-A777-D73CB0E36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1C4D7-F227-44C8-B3D8-BE9BBADB7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882BD5-0497-4A09-8C65-4BBA271681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B81128-9916-4540-AFA2-141ECB0887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D79526-4E3D-41E9-A116-EAE0934D0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D42D5-19F5-421A-A2D4-E801A1E5C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26C41-D5FF-4502-8A7B-62DCB301E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BD878-FF64-4AD4-B671-887942104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FD8C1-E681-4F5F-A03A-8928C10D3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62071-5C0B-40BB-B59E-9B02DA4D47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19C20-DF5A-4C39-8C7D-EDA815D80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29B05-0562-4DAB-B91D-B89A4412A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B3C69-9EFC-47BF-B5C7-54C1514A8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7B2EB-0A61-4EF8-B173-BB73F38405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EC2FEB-B5F2-4A68-A868-E5A277F45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FE28AD-79DB-413B-AA4C-617F8F4AF3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7AF1F-D9ED-4275-AACA-4B836842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D1EC9D-C1BF-4694-8726-C2C1335AFA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CE0F6C-6FC3-464B-8795-C0A36F5202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B1016-B7B1-4398-941D-A04096C8F8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685899-718D-4493-A342-BCB481AEA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29E53A-4FAE-4950-94C0-552FB5CED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38E29E-1A3F-47C8-A1C6-903DC01DAF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519EC2-9909-4886-BA1E-31831311C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1F8288-FDEC-492F-ACD6-7A8B76BC53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901C9-9122-4161-80FB-F50CE1285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1330B-AACB-4C4D-9FD2-026E0B63A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02FA-C1FB-45C1-8454-304535F36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FDC81-F50D-4A61-9C71-275BDFB436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23A94C-35F0-4C2B-8112-58F941DFD0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66DBE9-2647-4A04-AADF-BAF76E5736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68ADCD-1427-46EF-9527-625B5D69A6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45236-0252-4122-8282-D28A168BC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4510A-BBD1-4A16-8E41-010C53FF16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49B15-7B24-479F-966D-1ABFC364E0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03BE61-B47C-47A9-8AC3-600F681E81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FB38E-0C4E-4F9F-8370-04666BEECC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7C0D84-8B9F-4D3A-A1F4-4F53085AD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DB41B-2597-4593-9EE2-331B5181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BE14D-DDAE-466A-909C-B85B14DF4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7FBF7-7D3E-4CDA-9686-114CD737B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BFF7E5-0A2C-4941-B64B-A71CBE1F9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992E36-EF04-4888-8169-82C53CD789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9B9E84-EBE2-41E9-A0E0-B6B3077180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4093D-621A-4E05-9DA4-B4E32BEE1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4C92-CBB2-44B0-9FB1-0626FDAFE1E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8516-4043-4DC8-90C9-74A17AABE90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248E-4F48-4337-8D6E-B37629F54E2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246B-D9CE-4EA2-A1AA-931E58C8208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5A12-77CC-4371-91A0-76A5CAD13F8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2FBE-8856-417B-A485-5F1AB55CEEE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9EC3-2FAA-49C0-94B2-D7EF265CE6E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untold sto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 told by Jolandra White (EDUC 8841)</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lementat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rmat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fontScale="92000"/>
          </a:bodyPr>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6 – “With support from Apple Computer, the SFDMC publishes the first version of the </a:t>
            </a:r>
            <a:r>
              <a:rPr b="0" i="1" lang="en-US" sz="2600" spc="-1" strike="noStrike">
                <a:solidFill>
                  <a:srgbClr val="ffffff"/>
                </a:solidFill>
                <a:latin typeface="Corbel"/>
              </a:rPr>
              <a:t>Digital Storytelling Cookbook</a:t>
            </a:r>
            <a:r>
              <a:rPr b="0" lang="en-US" sz="2600" spc="-1" strike="noStrike">
                <a:solidFill>
                  <a:srgbClr val="ffffff"/>
                </a:solidFill>
                <a:latin typeface="Corbe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Corbel"/>
                <a:hlinkClick r:id="rId1"/>
              </a:rPr>
              <a:t>http://www.storycenter.org/cookbook.html</a:t>
            </a: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Educational Uses of Digital Storytelling</a:t>
            </a:r>
            <a:endParaRPr b="0" lang="en-US" sz="3200" spc="-1" strike="noStrike">
              <a:solidFill>
                <a:srgbClr val="c1eeff"/>
              </a:solidFill>
              <a:latin typeface="Consolas"/>
            </a:endParaRPr>
          </a:p>
        </p:txBody>
      </p:sp>
      <p:pic>
        <p:nvPicPr>
          <p:cNvPr id="397" name="Picture 2" descr=""/>
          <p:cNvPicPr/>
          <p:nvPr/>
        </p:nvPicPr>
        <p:blipFill>
          <a:blip r:embed="rId1"/>
          <a:stretch/>
        </p:blipFill>
        <p:spPr>
          <a:xfrm>
            <a:off x="2362320" y="2590920"/>
            <a:ext cx="4733640" cy="3865320"/>
          </a:xfrm>
          <a:prstGeom prst="rect">
            <a:avLst/>
          </a:prstGeom>
          <a:ln w="0">
            <a:noFill/>
          </a:ln>
        </p:spPr>
      </p:pic>
      <p:pic>
        <p:nvPicPr>
          <p:cNvPr id="398" name="Rectangle 5" descr=""/>
          <p:cNvPicPr/>
          <p:nvPr/>
        </p:nvPicPr>
        <p:blipFill>
          <a:blip r:embed="rId2"/>
          <a:stretch/>
        </p:blipFill>
        <p:spPr>
          <a:xfrm>
            <a:off x="2736720" y="2206800"/>
            <a:ext cx="3645000" cy="26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legiate use of DS . . .</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12 use of DS . . .</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The Digital Storytelling S Curve</a:t>
            </a:r>
            <a:endParaRPr b="0" lang="en-US" sz="3400" spc="-1" strike="noStrike">
              <a:solidFill>
                <a:srgbClr val="c1eeff"/>
              </a:solidFill>
              <a:latin typeface="Consolas"/>
            </a:endParaRPr>
          </a:p>
        </p:txBody>
      </p:sp>
      <p:pic>
        <p:nvPicPr>
          <p:cNvPr id="404" name="Picture 4" descr=""/>
          <p:cNvPicPr/>
          <p:nvPr/>
        </p:nvPicPr>
        <p:blipFill>
          <a:blip r:embed="rId1"/>
          <a:stretch/>
        </p:blipFill>
        <p:spPr>
          <a:xfrm>
            <a:off x="1905120" y="2133720"/>
            <a:ext cx="5900760" cy="3747960"/>
          </a:xfrm>
          <a:prstGeom prst="rect">
            <a:avLst/>
          </a:prstGeom>
          <a:ln w="0">
            <a:noFill/>
          </a:ln>
        </p:spPr>
      </p:pic>
      <p:sp>
        <p:nvSpPr>
          <p:cNvPr id="405" name="Rectangle 4"/>
          <p:cNvSpPr/>
          <p:nvPr/>
        </p:nvSpPr>
        <p:spPr>
          <a:xfrm>
            <a:off x="2057400" y="5943600"/>
            <a:ext cx="5715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 Curve – Innovation Adoption . . .</a:t>
            </a:r>
            <a:endParaRPr b="0" lang="en-US" sz="3200" spc="-1" strike="noStrike">
              <a:solidFill>
                <a:srgbClr val="c1eeff"/>
              </a:solidFill>
              <a:latin typeface="Consolas"/>
            </a:endParaRPr>
          </a:p>
        </p:txBody>
      </p:sp>
      <p:sp>
        <p:nvSpPr>
          <p:cNvPr id="40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shaped 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512640"/>
            <a:ext cx="80773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pic>
        <p:nvPicPr>
          <p:cNvPr id="409" name="Content Placeholder 5" descr=""/>
          <p:cNvPicPr/>
          <p:nvPr/>
        </p:nvPicPr>
        <p:blipFill>
          <a:blip r:embed="rId1"/>
          <a:stretch/>
        </p:blipFill>
        <p:spPr>
          <a:xfrm>
            <a:off x="990720" y="121932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sp>
        <p:nvSpPr>
          <p:cNvPr id="41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graph presents the dates of adoption by various organizations over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data reveals the adoption of Digital Storytelling does not fit the norm but does slowly increase over tim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me organizations adopt this innovations at the same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ate of Adoption </a:t>
            </a:r>
            <a:endParaRPr b="0" lang="en-US" sz="4000" spc="-1" strike="noStrike">
              <a:solidFill>
                <a:srgbClr val="c1eeff"/>
              </a:solidFill>
              <a:latin typeface="Consolas"/>
            </a:endParaRPr>
          </a:p>
        </p:txBody>
      </p:sp>
      <p:sp>
        <p:nvSpPr>
          <p:cNvPr id="41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ffusion of Digital Storytelling at different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tes in the k-12 environme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4" name="Picture 2" descr="C:\Users\Jolandra\Pictures\Microsoft Clip Organizer\j0358959.wmf"/>
          <p:cNvPicPr/>
          <p:nvPr/>
        </p:nvPicPr>
        <p:blipFill>
          <a:blip r:embed="rId1"/>
          <a:stretch/>
        </p:blipFill>
        <p:spPr>
          <a:xfrm>
            <a:off x="6858000" y="4724280"/>
            <a:ext cx="1827360" cy="1830600"/>
          </a:xfrm>
          <a:prstGeom prst="rect">
            <a:avLst/>
          </a:prstGeom>
          <a:ln w="0">
            <a:noFill/>
          </a:ln>
        </p:spPr>
      </p:pic>
      <p:pic>
        <p:nvPicPr>
          <p:cNvPr id="415" name="Picture 3" descr="C:\Program Files\Microsoft Office\MEDIA\CAGCAT10\j0195812.wmf"/>
          <p:cNvPicPr/>
          <p:nvPr/>
        </p:nvPicPr>
        <p:blipFill>
          <a:blip r:embed="rId2"/>
          <a:stretch/>
        </p:blipFill>
        <p:spPr>
          <a:xfrm>
            <a:off x="3809880" y="3962520"/>
            <a:ext cx="1773360" cy="1823760"/>
          </a:xfrm>
          <a:prstGeom prst="rect">
            <a:avLst/>
          </a:prstGeom>
          <a:ln w="0">
            <a:noFill/>
          </a:ln>
        </p:spPr>
      </p:pic>
      <p:pic>
        <p:nvPicPr>
          <p:cNvPr id="416" name="Picture 4" descr="C:\Program Files\Microsoft Office\MEDIA\CAGCAT10\j0297707.wmf"/>
          <p:cNvPicPr/>
          <p:nvPr/>
        </p:nvPicPr>
        <p:blipFill>
          <a:blip r:embed="rId3"/>
          <a:stretch/>
        </p:blipFill>
        <p:spPr>
          <a:xfrm>
            <a:off x="1371600" y="3352680"/>
            <a:ext cx="1479600" cy="18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1: Need . . .</a:t>
            </a:r>
            <a:endParaRPr b="0" lang="en-US" sz="4000" spc="-1" strike="noStrike">
              <a:solidFill>
                <a:srgbClr val="c1eeff"/>
              </a:solidFill>
              <a:latin typeface="Consolas"/>
            </a:endParaRPr>
          </a:p>
        </p:txBody>
      </p:sp>
      <p:pic>
        <p:nvPicPr>
          <p:cNvPr id="371"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2" name="TextBox 4"/>
          <p:cNvSpPr/>
          <p:nvPr/>
        </p:nvSpPr>
        <p:spPr>
          <a:xfrm>
            <a:off x="990720" y="13716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 or need existed that gave rise to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Digital Storytelling’ is an emerging term, one that arises from a grassroots movement that uses new digital tools to help ordinary people tell their own ‘true stories’ in a compelling and emotional engaging form” (Wikipedia, 2009, ¶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novators . . .</a:t>
            </a:r>
            <a:endParaRPr b="0" lang="en-US" sz="4000" spc="-1" strike="noStrike">
              <a:solidFill>
                <a:srgbClr val="c1eeff"/>
              </a:solidFill>
              <a:latin typeface="Consolas"/>
            </a:endParaRPr>
          </a:p>
        </p:txBody>
      </p:sp>
      <p:sp>
        <p:nvSpPr>
          <p:cNvPr id="418" name=""/>
          <p:cNvSpPr txBox="1"/>
          <p:nvPr/>
        </p:nvSpPr>
        <p:spPr>
          <a:xfrm>
            <a:off x="914400" y="1295280"/>
            <a:ext cx="7772400" cy="4572000"/>
          </a:xfrm>
          <a:prstGeom prst="rect">
            <a:avLst/>
          </a:prstGeom>
          <a:noFill/>
          <a:ln w="0">
            <a:noFill/>
          </a:ln>
        </p:spPr>
        <p:txBody>
          <a:bodyPr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ana Atchley and Joe Lamber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each digital storytelling workshops for filmmakers</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nd  the </a:t>
            </a:r>
            <a:r>
              <a:rPr b="0" lang="es-ES" sz="3000" spc="-1" strike="noStrike">
                <a:solidFill>
                  <a:srgbClr val="ffffff"/>
                </a:solidFill>
                <a:latin typeface="Corbel"/>
              </a:rPr>
              <a:t>San Francisco Digital Media Center (SFDMC)</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ains  organizations on digital storytelling facilitation</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llaborated internationally</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DS, 2009) </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Adopters . . .</a:t>
            </a:r>
            <a:endParaRPr b="0" lang="en-US" sz="4000" spc="-1" strike="noStrike">
              <a:solidFill>
                <a:srgbClr val="c1eeff"/>
              </a:solidFill>
              <a:latin typeface="Consolas"/>
            </a:endParaRPr>
          </a:p>
        </p:txBody>
      </p:sp>
      <p:sp>
        <p:nvSpPr>
          <p:cNvPr id="420" name=""/>
          <p:cNvSpPr txBox="1"/>
          <p:nvPr/>
        </p:nvSpPr>
        <p:spPr>
          <a:xfrm>
            <a:off x="914400" y="1219320"/>
            <a:ext cx="7772400" cy="54864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telling (CDS) lead the way for digital storytelling adop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The SFDMC relocates to the University of California at Berkeley's School of Education, becoming the Center for Digital Storytelling (CDS)” (CDS, 2009, ¶ 11)</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CDS begins training educational organizations throughout the United States, introducing digital storytelling methods to ongoing dialogues about technology in the K-12 education context” (¶ 13) .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Colleagues like Bernajean Porter, Alan November, Mark Stanley, and Jason Ohler develop various curricular materials and author numerous publications about digital storytelling as a pedagogical strategy” (¶ 13)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Majority . . .</a:t>
            </a:r>
            <a:endParaRPr b="0" lang="en-US" sz="4000" spc="-1" strike="noStrike">
              <a:solidFill>
                <a:srgbClr val="c1eeff"/>
              </a:solidFill>
              <a:latin typeface="Consolas"/>
            </a:endParaRPr>
          </a:p>
        </p:txBody>
      </p:sp>
      <p:sp>
        <p:nvSpPr>
          <p:cNvPr id="422" name=""/>
          <p:cNvSpPr txBox="1"/>
          <p:nvPr/>
        </p:nvSpPr>
        <p:spPr>
          <a:xfrm>
            <a:off x="914400" y="13716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munity colleges in San Francisco begin digital storytelling program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pple Computer and Adobe Systems develop digital storytelling curricul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tune 50 leaders  like Hewlett Packard, Ford, and Proctor and Gamble (U.S.) and Tryg Baltica (Copenhagen) attend digital storytelling workshop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DS, 200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Majority . . .</a:t>
            </a:r>
            <a:endParaRPr b="0" lang="en-US" sz="4000" spc="-1" strike="noStrike">
              <a:solidFill>
                <a:srgbClr val="c1eeff"/>
              </a:solidFill>
              <a:latin typeface="Consolas"/>
            </a:endParaRPr>
          </a:p>
        </p:txBody>
      </p:sp>
      <p:sp>
        <p:nvSpPr>
          <p:cNvPr id="424" name=""/>
          <p:cNvSpPr txBox="1"/>
          <p:nvPr/>
        </p:nvSpPr>
        <p:spPr>
          <a:xfrm>
            <a:off x="990720" y="1142640"/>
            <a:ext cx="7772400" cy="5715000"/>
          </a:xfrm>
          <a:prstGeom prst="rect">
            <a:avLst/>
          </a:prstGeom>
          <a:noFill/>
          <a:ln w="0">
            <a:noFill/>
          </a:ln>
        </p:spPr>
        <p:txBody>
          <a:bodyPr anchor="t">
            <a:normAutofit/>
          </a:bodyPr>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a:t>
            </a:r>
            <a:endParaRPr b="0" lang="en-US" sz="1800" spc="-1" strike="noStrike">
              <a:solidFill>
                <a:srgbClr val="ffffff"/>
              </a:solidFill>
              <a:latin typeface="Corbel"/>
            </a:endParaRPr>
          </a:p>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ggards . . .</a:t>
            </a:r>
            <a:endParaRPr b="0" lang="en-US" sz="4000" spc="-1" strike="noStrike">
              <a:solidFill>
                <a:srgbClr val="c1eeff"/>
              </a:solidFill>
              <a:latin typeface="Consolas"/>
            </a:endParaRPr>
          </a:p>
        </p:txBody>
      </p:sp>
      <p:sp>
        <p:nvSpPr>
          <p:cNvPr id="426" name=""/>
          <p:cNvSpPr txBox="1"/>
          <p:nvPr/>
        </p:nvSpPr>
        <p:spPr>
          <a:xfrm>
            <a:off x="914400" y="13716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K-12 education does not embrace digital storytelling from initial introduction in 1998. It takes on-going training and support to convince them to adop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2006, CDS initiates its "Workshop for Educators," to prepare K-12 teachers and technology staff to lead classroom-based digital storytelling efforts with students” (CDS, 2009, ¶ 5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ceived Attributes</a:t>
            </a:r>
            <a:endParaRPr b="0" lang="en-US" sz="4000" spc="-1" strike="noStrike">
              <a:solidFill>
                <a:srgbClr val="c1eeff"/>
              </a:solidFill>
              <a:latin typeface="Consolas"/>
            </a:endParaRPr>
          </a:p>
        </p:txBody>
      </p:sp>
      <p:sp>
        <p:nvSpPr>
          <p:cNvPr id="428" name=""/>
          <p:cNvSpPr txBox="1"/>
          <p:nvPr/>
        </p:nvSpPr>
        <p:spPr>
          <a:xfrm>
            <a:off x="914400" y="1371240"/>
            <a:ext cx="7772400" cy="518148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ical mass “occurs at the point at which enough individuals in a system have adopted an innovation so that the innovation’s further rate of adoption becomes self-sustaining” (Rogers, 2003, p. 344)</a:t>
            </a:r>
            <a:endParaRPr b="0" lang="en-US" sz="30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ical mass was reached for digital storytelling in 1999 when the demand for CDS annual workshops and training was requested nationally and internationally. (CDS, 200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ferences</a:t>
            </a:r>
            <a:endParaRPr b="0" lang="en-US" sz="4000" spc="-1" strike="noStrike">
              <a:solidFill>
                <a:srgbClr val="c1eeff"/>
              </a:solidFill>
              <a:latin typeface="Consolas"/>
            </a:endParaRPr>
          </a:p>
        </p:txBody>
      </p:sp>
      <p:sp>
        <p:nvSpPr>
          <p:cNvPr id="430" name=""/>
          <p:cNvSpPr txBox="1"/>
          <p:nvPr/>
        </p:nvSpPr>
        <p:spPr>
          <a:xfrm>
            <a:off x="914400" y="1295280"/>
            <a:ext cx="7772400" cy="457200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enter for Digital Storytelling. (2009). The evolution of digital storytelling:</a:t>
            </a:r>
            <a:br>
              <a:rPr sz="1400"/>
            </a:br>
            <a:r>
              <a:rPr b="0" lang="en-US" sz="1400" spc="-1" strike="noStrike">
                <a:solidFill>
                  <a:srgbClr val="ffffff"/>
                </a:solidFill>
                <a:latin typeface="Corbel"/>
              </a:rPr>
              <a:t>An abbreviated history of key moments during the first sixteen years (1993-2006). Retrieved July 2, 2009, from http://www.storycenter.org/timeline.html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nnovative Teaching Concepts. (2009). Digital storytelling: The very last of the great whangdoodles [video recording]. Retrieved July 3, 2009, from http://www.todaysteacher.com/Digital_Storytelling/wangdoodle.wmv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ogers, E. (2003). Diffusion of innovations (5th ed.). New York: Free Press.</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ucker, G. (2006). First person singular: The power of digital storytelling. </a:t>
            </a:r>
            <a:r>
              <a:rPr b="0" i="1" lang="en-US" sz="1400" spc="-1" strike="noStrike">
                <a:solidFill>
                  <a:srgbClr val="ffffff"/>
                </a:solidFill>
                <a:latin typeface="Corbel"/>
              </a:rPr>
              <a:t>Screen Education, 42</a:t>
            </a:r>
            <a:r>
              <a:rPr b="0" lang="en-US" sz="1400" spc="-1" strike="noStrike">
                <a:solidFill>
                  <a:srgbClr val="ffffff"/>
                </a:solidFill>
                <a:latin typeface="Corbel"/>
              </a:rPr>
              <a:t>, 54-58.</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University of Houston. (2008). The educational uses of digital storytelling: An introduction to digital storytelling [video recording]. Retrieved June 25, 2009, from http://digitalstorytelling.coe.uh.edu/index.html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ikipedia. (2009). </a:t>
            </a:r>
            <a:r>
              <a:rPr b="0" i="1" lang="en-US" sz="1400" spc="-1" strike="noStrike">
                <a:solidFill>
                  <a:srgbClr val="ffffff"/>
                </a:solidFill>
                <a:latin typeface="Corbel"/>
              </a:rPr>
              <a:t>Digital storytelling. </a:t>
            </a:r>
            <a:r>
              <a:rPr b="0" lang="en-US" sz="1400" spc="-1" strike="noStrike">
                <a:solidFill>
                  <a:srgbClr val="ffffff"/>
                </a:solidFill>
                <a:latin typeface="Corbel"/>
              </a:rPr>
              <a:t>Retrieved June 25, 2009, from http://en.wikipedia.org/wiki/Digital_storytelling</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source</a:t>
            </a:r>
            <a:endParaRPr b="0" lang="en-US" sz="4000" spc="-1" strike="noStrike">
              <a:solidFill>
                <a:srgbClr val="c1eeff"/>
              </a:solidFill>
              <a:latin typeface="Consolas"/>
            </a:endParaRPr>
          </a:p>
        </p:txBody>
      </p:sp>
      <p:sp>
        <p:nvSpPr>
          <p:cNvPr id="43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 Tell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extexit.com/nextexit/nextframeset.htm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storycenter.org/cookbook.htm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electronicportfolios.org/digistory/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2: Research . . .</a:t>
            </a:r>
            <a:endParaRPr b="0" lang="en-US" sz="4000" spc="-1" strike="noStrike">
              <a:solidFill>
                <a:srgbClr val="c1eeff"/>
              </a:solidFill>
              <a:latin typeface="Consolas"/>
            </a:endParaRPr>
          </a:p>
        </p:txBody>
      </p:sp>
      <p:pic>
        <p:nvPicPr>
          <p:cNvPr id="374" name="Picture 2" descr="C:\Program Files\Microsoft Office\MEDIA\CAGCAT10\j0195384.wmf"/>
          <p:cNvPicPr/>
          <p:nvPr/>
        </p:nvPicPr>
        <p:blipFill>
          <a:blip r:embed="rId1"/>
          <a:stretch/>
        </p:blipFill>
        <p:spPr>
          <a:xfrm>
            <a:off x="3657600" y="4800600"/>
            <a:ext cx="1795320" cy="1833480"/>
          </a:xfrm>
          <a:prstGeom prst="rect">
            <a:avLst/>
          </a:prstGeom>
          <a:ln w="0">
            <a:noFill/>
          </a:ln>
        </p:spPr>
      </p:pic>
      <p:sp>
        <p:nvSpPr>
          <p:cNvPr id="375" name="TextBox 5"/>
          <p:cNvSpPr/>
          <p:nvPr/>
        </p:nvSpPr>
        <p:spPr>
          <a:xfrm>
            <a:off x="914400" y="1295280"/>
            <a:ext cx="7924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research organization or people developed a solution to this problem or need? What were their findings? Who were the ‘lead thinkers’ for this innovation, and how did they convince a manufacturer to produce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Some of the artists that have self-described as digital storytellers included Joe Lambert, Massimo Don, Massimo Laurel, Dana Atchley and Massimo Meyer” (Wikipedia, 2009, ¶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Digital storytelling  has its roots in the American community theatre movement, emerging in California in the late eighties through the collaboration of performing artist Dana Atchley and actor Joe Lambert” (Tucker, 2006, p. 5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3: Development . . .</a:t>
            </a:r>
            <a:endParaRPr b="0" lang="en-US" sz="4000" spc="-1" strike="noStrike">
              <a:solidFill>
                <a:srgbClr val="c1eeff"/>
              </a:solidFill>
              <a:latin typeface="Consolas"/>
            </a:endParaRPr>
          </a:p>
        </p:txBody>
      </p:sp>
      <p:pic>
        <p:nvPicPr>
          <p:cNvPr id="377" name="Picture 4" descr="C:\Program Files\Microsoft Office\MEDIA\CAGCAT10\j0285410.wmf"/>
          <p:cNvPicPr/>
          <p:nvPr/>
        </p:nvPicPr>
        <p:blipFill>
          <a:blip r:embed="rId1"/>
          <a:stretch/>
        </p:blipFill>
        <p:spPr>
          <a:xfrm>
            <a:off x="3809880" y="4800600"/>
            <a:ext cx="1866960" cy="1776240"/>
          </a:xfrm>
          <a:prstGeom prst="rect">
            <a:avLst/>
          </a:prstGeom>
          <a:ln w="0">
            <a:noFill/>
          </a:ln>
        </p:spPr>
      </p:pic>
      <p:sp>
        <p:nvSpPr>
          <p:cNvPr id="378" name="TextBox 7"/>
          <p:cNvSpPr/>
          <p:nvPr/>
        </p:nvSpPr>
        <p:spPr>
          <a:xfrm>
            <a:off x="1066680" y="1600200"/>
            <a:ext cx="7315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s did Digital storytelling encounter in the development process? Who was the intended audience for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original intended audience was the people or societ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tage 4: Commercialization . . .</a:t>
            </a:r>
            <a:endParaRPr b="0" lang="en-US" sz="3400" spc="-1" strike="noStrike">
              <a:solidFill>
                <a:srgbClr val="c1eeff"/>
              </a:solidFill>
              <a:latin typeface="Consolas"/>
            </a:endParaRPr>
          </a:p>
        </p:txBody>
      </p:sp>
      <p:pic>
        <p:nvPicPr>
          <p:cNvPr id="380" name="Picture 4" descr="C:\Program Files\Microsoft Office\MEDIA\CAGCAT10\j0287005.wmf"/>
          <p:cNvPicPr/>
          <p:nvPr/>
        </p:nvPicPr>
        <p:blipFill>
          <a:blip r:embed="rId1"/>
          <a:stretch/>
        </p:blipFill>
        <p:spPr>
          <a:xfrm>
            <a:off x="4038480" y="4419720"/>
            <a:ext cx="1357560" cy="2332080"/>
          </a:xfrm>
          <a:prstGeom prst="rect">
            <a:avLst/>
          </a:prstGeom>
          <a:ln w="0">
            <a:noFill/>
          </a:ln>
        </p:spPr>
      </p:pic>
      <p:sp>
        <p:nvSpPr>
          <p:cNvPr id="381" name="TextBox 6"/>
          <p:cNvSpPr/>
          <p:nvPr/>
        </p:nvSpPr>
        <p:spPr>
          <a:xfrm>
            <a:off x="1066680" y="1600200"/>
            <a:ext cx="7162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escribe the production, manufacturing, packaging, marketing, and distribution of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igital Storytelling is produced through workshops, in-class training,  websites and the Center for Digital Storytell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he Innovation-Decision Process</a:t>
            </a:r>
            <a:endParaRPr b="0" lang="en-US" sz="3600" spc="-1" strike="noStrike">
              <a:solidFill>
                <a:srgbClr val="c1eeff"/>
              </a:solidFill>
              <a:latin typeface="Consolas"/>
            </a:endParaRPr>
          </a:p>
        </p:txBody>
      </p:sp>
      <p:pic>
        <p:nvPicPr>
          <p:cNvPr id="383" name="Picture 4" descr="">
            <a:hlinkClick r:id="rId1"/>
          </p:cNvPr>
          <p:cNvPicPr/>
          <p:nvPr/>
        </p:nvPicPr>
        <p:blipFill>
          <a:blip r:embed="rId2"/>
          <a:stretch/>
        </p:blipFill>
        <p:spPr>
          <a:xfrm>
            <a:off x="1600200" y="2514600"/>
            <a:ext cx="6400800" cy="3657600"/>
          </a:xfrm>
          <a:prstGeom prst="rect">
            <a:avLst/>
          </a:prstGeom>
          <a:ln w="0">
            <a:noFill/>
          </a:ln>
        </p:spPr>
      </p:pic>
      <p:pic>
        <p:nvPicPr>
          <p:cNvPr id="384" name="Rectangle 4" descr=""/>
          <p:cNvPicPr/>
          <p:nvPr/>
        </p:nvPicPr>
        <p:blipFill>
          <a:blip r:embed="rId3"/>
          <a:stretch/>
        </p:blipFill>
        <p:spPr>
          <a:xfrm>
            <a:off x="3041640" y="1889280"/>
            <a:ext cx="3749760" cy="274320"/>
          </a:xfrm>
          <a:prstGeom prst="rect">
            <a:avLst/>
          </a:prstGeom>
          <a:ln w="0">
            <a:noFill/>
          </a:ln>
        </p:spPr>
      </p:pic>
      <p:sp>
        <p:nvSpPr>
          <p:cNvPr id="385"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iversity of Houston,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nowledge . . .</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anchor="t">
            <a:normAutofit/>
          </a:bodyPr>
          <a:p>
            <a:pPr marL="582480" indent="-514080">
              <a:lnSpc>
                <a:spcPct val="90000"/>
              </a:lnSpc>
              <a:spcBef>
                <a:spcPts val="700"/>
              </a:spcBef>
              <a:buClr>
                <a:srgbClr val="d6ecff"/>
              </a:buClr>
              <a:buSzPct val="95000"/>
              <a:buFont typeface="Corbel"/>
              <a:buAutoNum type="arabicPlain" startAt="198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988-90 – Atchley and Lambert collaborate to develop a Atchley’s</a:t>
            </a:r>
            <a:r>
              <a:rPr b="0" i="1" lang="en-US" sz="2800" spc="-1" strike="noStrike">
                <a:solidFill>
                  <a:srgbClr val="ffffff"/>
                </a:solidFill>
                <a:latin typeface="Corbe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rPr>
              <a:t>http://www.nextexit.com/nextexit/nextframeset.html</a:t>
            </a:r>
            <a:r>
              <a:rPr b="0" lang="en-US"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suasion . . .</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ision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7-26T06:41:01Z</dcterms:modified>
  <cp:revision>68</cp:revision>
  <dc:subject/>
  <dc:title>Digital Storytelling</dc:title>
</cp:coreProperties>
</file>